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8C8-C2BD-4E4C-BF86-4E7F8D24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E3D-B5DC-4CD5-97E4-09FEF3A2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E73-76D8-403D-BFBD-B51442FC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DC4-FFE1-4178-AAED-38A44DCC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AF2-E8D1-4BF5-942D-BFF26DD4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E8A-F55B-4053-A603-CA37B199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67E-68B4-4368-8587-D30D739E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CE8-2BB9-4D16-97A4-6672E0F9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8C5-09BB-4275-805A-CDA9187C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6E6-D504-4406-8897-434A9E28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F0F-663E-4D89-A5FB-C8501E3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7AF-FA52-495A-BF96-08D8CDE1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9B2-E91D-4E2E-B822-449F9A625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esting -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83808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8380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9907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325"/>
          <a:stretch/>
        </p:blipFill>
        <p:spPr>
          <a:xfrm>
            <a:off x="990720" y="68580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10666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76212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3200400"/>
            <a:ext cx="739116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7610"/>
          <a:stretch/>
        </p:blipFill>
        <p:spPr>
          <a:xfrm>
            <a:off x="990720" y="380880"/>
            <a:ext cx="7391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838080"/>
            <a:ext cx="7391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573"/>
          <a:stretch/>
        </p:blipFill>
        <p:spPr>
          <a:xfrm>
            <a:off x="990720" y="609480"/>
            <a:ext cx="7162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047"/>
          <a:stretch/>
        </p:blipFill>
        <p:spPr>
          <a:xfrm>
            <a:off x="685800" y="45720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066680" y="83808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74320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57150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133720"/>
            <a:ext cx="7238880" cy="20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53080" y="3962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16:00:53Z</dcterms:modified>
  <cp:revision>44</cp:revision>
  <dc:subject/>
  <dc:title>PowerPoint Presentation</dc:title>
</cp:coreProperties>
</file>